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png" ContentType="image/png"/>
  <Override PartName="/ppt/media/image15.png" ContentType="image/png"/>
  <Override PartName="/ppt/media/image7.pct" ContentType="image/x-pict"/>
  <Override PartName="/ppt/media/image14.png" ContentType="image/png"/>
  <Override PartName="/ppt/media/image6.pct" ContentType="image/x-pict"/>
  <Override PartName="/ppt/media/image9.png" ContentType="image/png"/>
  <Override PartName="/ppt/media/image1.pct" ContentType="image/x-pict"/>
  <Override PartName="/ppt/media/image4.png" ContentType="image/png"/>
  <Override PartName="/ppt/media/image8.jpeg" ContentType="image/jpeg"/>
  <Override PartName="/ppt/media/image2.pct" ContentType="image/x-pict"/>
  <Override PartName="/ppt/media/image10.png" ContentType="image/png"/>
  <Override PartName="/ppt/media/image3.png" ContentType="image/png"/>
  <Override PartName="/ppt/media/image5.pct" ContentType="image/x-pict"/>
  <Override PartName="/ppt/media/image13.png" ContentType="image/pn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A8504-FC10-4CBE-9EC8-16612E59B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90600" y="797040"/>
            <a:ext cx="4276800" cy="32065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Palatino"/>
              </a:rPr>
              <a:t>In a recent study looking at document use by knowledge workers, Kidd found that the </a:t>
            </a:r>
            <a:r>
              <a:rPr b="0" i="1" lang="en-GB" sz="1200" spc="-1" strike="noStrike">
                <a:solidFill>
                  <a:srgbClr val="000000"/>
                </a:solidFill>
                <a:latin typeface="Palatino"/>
              </a:rPr>
              <a:t>process of articulating and refining work products</a:t>
            </a:r>
            <a:r>
              <a:rPr b="0" lang="en-GB" sz="1200" spc="-1" strike="noStrike">
                <a:solidFill>
                  <a:srgbClr val="000000"/>
                </a:solidFill>
                <a:latin typeface="Palatino"/>
              </a:rPr>
              <a:t> was often more important for informing practitioners than the products themselves (Kidd 1994). In a broader context, Brown and Duguid contrast two basic models of document use: ‘documents as darts’ where documents serve as a means of objectively transmitting knowledge and ‘documents as a means for supporting social processes’ (Brown and Duguid 1996). They argue that </a:t>
            </a:r>
            <a:r>
              <a:rPr b="0" i="1" lang="en-GB" sz="1200" spc="-1" strike="noStrike">
                <a:solidFill>
                  <a:srgbClr val="000000"/>
                </a:solidFill>
                <a:latin typeface="Palatino"/>
              </a:rPr>
              <a:t>a key role of documents is to support negotiation and interpretation as communities struggle to reach a shared understanding</a:t>
            </a:r>
            <a:r>
              <a:rPr b="0" lang="en-GB" sz="1200" spc="-1" strike="noStrike">
                <a:solidFill>
                  <a:srgbClr val="000000"/>
                </a:solidFill>
                <a:latin typeface="Palatino"/>
              </a:rPr>
              <a:t>. Likewise, several leaders in collaborative working and learning have argued for a re-thinking of the status of ‘representations of work’ (Bannon 1995; Suchman 1995). They argue that rather than regarding these work products as static accounts or descriptions of the way things are, </a:t>
            </a:r>
            <a:r>
              <a:rPr b="0" i="1" lang="en-GB" sz="1200" spc="-1" strike="noStrike">
                <a:solidFill>
                  <a:srgbClr val="000000"/>
                </a:solidFill>
                <a:latin typeface="Palatino"/>
              </a:rPr>
              <a:t>representations should be regarded as starting points for discussion about the way things ought to be</a:t>
            </a:r>
            <a:r>
              <a:rPr b="0" lang="en-GB" sz="1200" spc="-1" strike="noStrike">
                <a:solidFill>
                  <a:srgbClr val="000000"/>
                </a:solidFill>
                <a:latin typeface="Palatino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71680" y="1523880"/>
            <a:ext cx="7999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71680" y="3952080"/>
            <a:ext cx="7999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1680" y="1523880"/>
            <a:ext cx="39034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640" y="1523880"/>
            <a:ext cx="39034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71680" y="3952080"/>
            <a:ext cx="39034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0640" y="3952080"/>
            <a:ext cx="39034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71680" y="1523880"/>
            <a:ext cx="2575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76360" y="1523880"/>
            <a:ext cx="2575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81040" y="1523880"/>
            <a:ext cx="2575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71680" y="3952080"/>
            <a:ext cx="2575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76360" y="3952080"/>
            <a:ext cx="2575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81040" y="3952080"/>
            <a:ext cx="2575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71680" y="1523880"/>
            <a:ext cx="7999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71680" y="1523880"/>
            <a:ext cx="7999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71680" y="1523880"/>
            <a:ext cx="3903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0640" y="1523880"/>
            <a:ext cx="3903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71680" y="1523880"/>
            <a:ext cx="39034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0640" y="1523880"/>
            <a:ext cx="3903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71680" y="3952080"/>
            <a:ext cx="39034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71680" y="1523880"/>
            <a:ext cx="3903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640" y="1523880"/>
            <a:ext cx="39034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0640" y="3952080"/>
            <a:ext cx="39034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71680" y="1523880"/>
            <a:ext cx="39034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640" y="1523880"/>
            <a:ext cx="39034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71680" y="3952080"/>
            <a:ext cx="7999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71680" y="1523880"/>
            <a:ext cx="7999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15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-228600"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3" marL="1600200" indent="-228600">
              <a:spcBef>
                <a:spcPts val="15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4" marL="2057400" indent="-228600">
              <a:spcBef>
                <a:spcPts val="1500"/>
              </a:spcBef>
              <a:buClr>
                <a:srgbClr val="ffff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5" marL="2057400" indent="-228600">
              <a:spcBef>
                <a:spcPts val="1500"/>
              </a:spcBef>
              <a:buClr>
                <a:srgbClr val="ffff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6" marL="2057400" indent="-228600">
              <a:spcBef>
                <a:spcPts val="1500"/>
              </a:spcBef>
              <a:buClr>
                <a:srgbClr val="ffff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6.pct"/><Relationship Id="rId3" Type="http://schemas.openxmlformats.org/officeDocument/2006/relationships/image" Target="../media/image6.pct"/><Relationship Id="rId4" Type="http://schemas.openxmlformats.org/officeDocument/2006/relationships/image" Target="../media/image6.pct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pct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image" Target="../media/image8.jpeg"/><Relationship Id="rId10" Type="http://schemas.openxmlformats.org/officeDocument/2006/relationships/image" Target="../media/image8.jpeg"/><Relationship Id="rId1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1.pct"/><Relationship Id="rId3" Type="http://schemas.openxmlformats.org/officeDocument/2006/relationships/image" Target="../media/image1.pct"/><Relationship Id="rId4" Type="http://schemas.openxmlformats.org/officeDocument/2006/relationships/image" Target="../media/image1.pct"/><Relationship Id="rId5" Type="http://schemas.openxmlformats.org/officeDocument/2006/relationships/image" Target="../media/image1.pct"/><Relationship Id="rId6" Type="http://schemas.openxmlformats.org/officeDocument/2006/relationships/image" Target="../media/image1.pct"/><Relationship Id="rId7" Type="http://schemas.openxmlformats.org/officeDocument/2006/relationships/image" Target="../media/image1.pct"/><Relationship Id="rId8" Type="http://schemas.openxmlformats.org/officeDocument/2006/relationships/image" Target="../media/image1.pct"/><Relationship Id="rId9" Type="http://schemas.openxmlformats.org/officeDocument/2006/relationships/image" Target="../media/image1.pct"/><Relationship Id="rId10" Type="http://schemas.openxmlformats.org/officeDocument/2006/relationships/image" Target="../media/image1.pct"/><Relationship Id="rId11" Type="http://schemas.openxmlformats.org/officeDocument/2006/relationships/image" Target="../media/image1.pct"/><Relationship Id="rId1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nabling Knowledge Creation and Sharing on the Web</a:t>
            </a:r>
            <a:r>
              <a:rPr b="1" i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nrico Motta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nowledge Media Institute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 Open University, UK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Document-Centred Knowledge Work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71680" y="1523880"/>
            <a:ext cx="7999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Document-centred knowledge work is ubiquitou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Teaching tends to be textbook-centred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Organizational work-practices are typically document-centred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But...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Documents are big, there are lots of them.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Knowledge retrieval is inefficient.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They are a poor medium to support automated intelligent services.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Do not normally explicitly embed the meta-knowledge required to interpret and use them.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Approach: ‘Enriched Documents’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71680" y="1523880"/>
            <a:ext cx="7999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Enriching by integration with </a:t>
            </a:r>
            <a:r>
              <a:rPr b="0" i="1" lang="en-GB" sz="2400" spc="-1" strike="noStrike">
                <a:solidFill>
                  <a:srgbClr val="ffff00"/>
                </a:solidFill>
                <a:latin typeface="Comic Sans MS"/>
              </a:rPr>
              <a:t>discussion spaces 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D3E environment - </a:t>
            </a:r>
            <a:r>
              <a:rPr b="0" i="1" lang="en-GB" sz="1800" spc="-1" strike="noStrike">
                <a:solidFill>
                  <a:srgbClr val="ffff00"/>
                </a:solidFill>
                <a:latin typeface="Comic Sans MS"/>
              </a:rPr>
              <a:t>Simon Buckingham Shum</a:t>
            </a: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Support for interpretation and knowledge sharing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Enriching by integration with </a:t>
            </a:r>
            <a:r>
              <a:rPr b="0" i="1" lang="en-GB" sz="2400" spc="-1" strike="noStrike">
                <a:solidFill>
                  <a:srgbClr val="ffff00"/>
                </a:solidFill>
                <a:latin typeface="Comic Sans MS"/>
              </a:rPr>
              <a:t>ontology-based formal model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Support for semantic retrieval, knowledge discovery, collaborative model building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Enriching by integration with </a:t>
            </a:r>
            <a:r>
              <a:rPr b="0" i="1" lang="en-GB" sz="2400" spc="-1" strike="noStrike">
                <a:solidFill>
                  <a:srgbClr val="ffff00"/>
                </a:solidFill>
                <a:latin typeface="Comic Sans MS"/>
              </a:rPr>
              <a:t>knowledge services 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e.g., textbook on dynamic systems augmented with discussion spaces, ontologies and on-line simulator (http://rich-odl.open.ac.uk; </a:t>
            </a:r>
            <a:r>
              <a:rPr b="0" i="1" lang="en-GB" sz="2000" spc="-1" strike="noStrike">
                <a:solidFill>
                  <a:srgbClr val="ffff00"/>
                </a:solidFill>
                <a:latin typeface="Comic Sans MS"/>
              </a:rPr>
              <a:t>Zdenek Zdrahal</a:t>
            </a: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74720" y="139680"/>
            <a:ext cx="7594560" cy="657864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5969160" y="254160"/>
            <a:ext cx="1369440" cy="523800"/>
            <a:chOff x="5969160" y="254160"/>
            <a:chExt cx="1369440" cy="523800"/>
          </a:xfrm>
        </p:grpSpPr>
        <p:sp>
          <p:nvSpPr>
            <p:cNvPr id="119" name=""/>
            <p:cNvSpPr/>
            <p:nvPr/>
          </p:nvSpPr>
          <p:spPr>
            <a:xfrm>
              <a:off x="6018120" y="254160"/>
              <a:ext cx="1270080" cy="523800"/>
            </a:xfrm>
            <a:prstGeom prst="horizontalScroll">
              <a:avLst>
                <a:gd name="adj" fmla="val 12500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969160" y="311040"/>
              <a:ext cx="136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cc"/>
                  </a:solidFill>
                  <a:latin typeface="Comic Sans MS"/>
                </a:rPr>
                <a:t>Document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 flipH="1">
            <a:off x="4792320" y="744480"/>
            <a:ext cx="1336680" cy="121932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596360" y="2471760"/>
            <a:ext cx="1269720" cy="113328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534080" y="2673360"/>
            <a:ext cx="139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cc"/>
                </a:solidFill>
                <a:latin typeface="Comic Sans MS"/>
              </a:rPr>
              <a:t>Discussion</a:t>
            </a:r>
            <a:br>
              <a:rPr sz="1800"/>
            </a:br>
            <a:r>
              <a:rPr b="1" lang="en-GB" sz="1800" spc="-1" strike="noStrike">
                <a:solidFill>
                  <a:srgbClr val="0000cc"/>
                </a:solidFill>
                <a:latin typeface="Comic Sans MS"/>
              </a:rPr>
              <a:t>Thread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7224480" y="3487680"/>
            <a:ext cx="928440" cy="84456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082880" y="390600"/>
            <a:ext cx="1293480" cy="523800"/>
            <a:chOff x="1082880" y="390600"/>
            <a:chExt cx="1293480" cy="523800"/>
          </a:xfrm>
        </p:grpSpPr>
        <p:sp>
          <p:nvSpPr>
            <p:cNvPr id="126" name=""/>
            <p:cNvSpPr/>
            <p:nvPr/>
          </p:nvSpPr>
          <p:spPr>
            <a:xfrm>
              <a:off x="1106640" y="390600"/>
              <a:ext cx="1269720" cy="523800"/>
            </a:xfrm>
            <a:prstGeom prst="horizontalScroll">
              <a:avLst>
                <a:gd name="adj" fmla="val 12500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082880" y="4474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cc"/>
                  </a:solidFill>
                  <a:latin typeface="Comic Sans MS"/>
                </a:rPr>
                <a:t>Contents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1676520" y="846000"/>
            <a:ext cx="17280" cy="17082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746280" y="150840"/>
          <a:ext cx="7648560" cy="663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280" y="150840"/>
                    <a:ext cx="7648560" cy="66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Features of the Approach 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71680" y="1523880"/>
            <a:ext cx="7999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Documents enriched with multiple interpretation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Trace of the lineage of idea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Focus for knowledge sharing and organizational learning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Comic Sans MS"/>
              </a:rPr>
              <a:t>Perspective Taking.</a:t>
            </a: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 Learning and interpretation through making </a:t>
            </a:r>
            <a:r>
              <a:rPr b="0" i="1" lang="en-GB" sz="2000" spc="-1" strike="noStrike">
                <a:solidFill>
                  <a:srgbClr val="ffff00"/>
                </a:solidFill>
                <a:latin typeface="Comic Sans MS"/>
              </a:rPr>
              <a:t>conceptual cues </a:t>
            </a: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explicit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6360" y="406080"/>
            <a:ext cx="7991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Ontology-Driven Document Enrichment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5111640" y="1276200"/>
            <a:ext cx="3794040" cy="1574640"/>
            <a:chOff x="5111640" y="1276200"/>
            <a:chExt cx="3794040" cy="1574640"/>
          </a:xfrm>
        </p:grpSpPr>
        <p:sp>
          <p:nvSpPr>
            <p:cNvPr id="135" name=""/>
            <p:cNvSpPr/>
            <p:nvPr/>
          </p:nvSpPr>
          <p:spPr>
            <a:xfrm>
              <a:off x="6570720" y="1276200"/>
              <a:ext cx="621000" cy="277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736320" y="1931400"/>
              <a:ext cx="619560" cy="277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942880" y="1952280"/>
              <a:ext cx="619920" cy="277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21120" y="1931400"/>
              <a:ext cx="619920" cy="277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6308280" y="1562040"/>
              <a:ext cx="449640" cy="3898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6916320" y="1562400"/>
              <a:ext cx="115200" cy="3830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 flipV="1">
              <a:off x="7082640" y="1539360"/>
              <a:ext cx="618480" cy="406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904720" y="2552040"/>
              <a:ext cx="619560" cy="277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11640" y="2572920"/>
              <a:ext cx="619920" cy="277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689520" y="2552040"/>
              <a:ext cx="619920" cy="277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86120" y="2526480"/>
              <a:ext cx="619560" cy="277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493040" y="2547360"/>
              <a:ext cx="619920" cy="277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5564160" y="2208240"/>
              <a:ext cx="537120" cy="3524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6220800" y="2282760"/>
              <a:ext cx="53280" cy="2653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6952320" y="2208240"/>
              <a:ext cx="127800" cy="3769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7832520" y="2220120"/>
              <a:ext cx="16200" cy="3153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flipV="1">
              <a:off x="8072280" y="2194560"/>
              <a:ext cx="540720" cy="339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 rot="5400000">
            <a:off x="3725280" y="865080"/>
            <a:ext cx="627120" cy="1963800"/>
          </a:xfrm>
          <a:prstGeom prst="upArrow">
            <a:avLst>
              <a:gd name="adj1" fmla="val 50000"/>
              <a:gd name="adj2" fmla="val 78286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271440" y="5757840"/>
            <a:ext cx="4353120" cy="863640"/>
            <a:chOff x="271440" y="5757840"/>
            <a:chExt cx="4353120" cy="863640"/>
          </a:xfrm>
        </p:grpSpPr>
        <p:pic>
          <p:nvPicPr>
            <p:cNvPr id="154" name="" descr=""/>
            <p:cNvPicPr/>
            <p:nvPr/>
          </p:nvPicPr>
          <p:blipFill>
            <a:blip r:embed="rId1"/>
            <a:stretch/>
          </p:blipFill>
          <p:spPr>
            <a:xfrm>
              <a:off x="271440" y="5757840"/>
              <a:ext cx="1152720" cy="86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" descr=""/>
            <p:cNvPicPr/>
            <p:nvPr/>
          </p:nvPicPr>
          <p:blipFill>
            <a:blip r:embed="rId2"/>
            <a:stretch/>
          </p:blipFill>
          <p:spPr>
            <a:xfrm>
              <a:off x="1338120" y="5757840"/>
              <a:ext cx="1152720" cy="86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3"/>
            <a:stretch/>
          </p:blipFill>
          <p:spPr>
            <a:xfrm>
              <a:off x="2405160" y="5757840"/>
              <a:ext cx="1152360" cy="86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4"/>
            <a:stretch/>
          </p:blipFill>
          <p:spPr>
            <a:xfrm>
              <a:off x="3471840" y="5757840"/>
              <a:ext cx="1152720" cy="8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" name=""/>
          <p:cNvSpPr/>
          <p:nvPr/>
        </p:nvSpPr>
        <p:spPr>
          <a:xfrm>
            <a:off x="1033920" y="149076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Viewpoin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1457280" y="2355840"/>
            <a:ext cx="876240" cy="3216240"/>
            <a:chOff x="1457280" y="2355840"/>
            <a:chExt cx="876240" cy="3216240"/>
          </a:xfrm>
        </p:grpSpPr>
        <p:graphicFrame>
          <p:nvGraphicFramePr>
            <p:cNvPr id="160" name=""/>
            <p:cNvGraphicFramePr/>
            <p:nvPr/>
          </p:nvGraphicFramePr>
          <p:xfrm>
            <a:off x="1457280" y="3506760"/>
            <a:ext cx="876240" cy="12002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6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457280" y="3506760"/>
                      <a:ext cx="876240" cy="1200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2" name=""/>
            <p:cNvSpPr/>
            <p:nvPr/>
          </p:nvSpPr>
          <p:spPr>
            <a:xfrm>
              <a:off x="1541520" y="4776840"/>
              <a:ext cx="627120" cy="795240"/>
            </a:xfrm>
            <a:prstGeom prst="upArrow">
              <a:avLst>
                <a:gd name="adj1" fmla="val 50000"/>
                <a:gd name="adj2" fmla="val 31702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541520" y="2355840"/>
              <a:ext cx="627120" cy="828720"/>
            </a:xfrm>
            <a:prstGeom prst="upArrow">
              <a:avLst>
                <a:gd name="adj1" fmla="val 50000"/>
                <a:gd name="adj2" fmla="val 33037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024520" y="2862360"/>
            <a:ext cx="3832200" cy="2813040"/>
            <a:chOff x="5024520" y="2862360"/>
            <a:chExt cx="3832200" cy="2813040"/>
          </a:xfrm>
        </p:grpSpPr>
        <p:sp>
          <p:nvSpPr>
            <p:cNvPr id="165" name=""/>
            <p:cNvSpPr/>
            <p:nvPr/>
          </p:nvSpPr>
          <p:spPr>
            <a:xfrm>
              <a:off x="5151600" y="3798720"/>
              <a:ext cx="1117440" cy="338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397560" y="3789360"/>
              <a:ext cx="1117800" cy="338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650000" y="3781440"/>
              <a:ext cx="1117800" cy="338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pic>
          <p:nvPicPr>
            <p:cNvPr id="168" name="" descr=""/>
            <p:cNvPicPr/>
            <p:nvPr/>
          </p:nvPicPr>
          <p:blipFill>
            <a:blip r:embed="rId7"/>
            <a:stretch/>
          </p:blipFill>
          <p:spPr>
            <a:xfrm>
              <a:off x="5024520" y="4840200"/>
              <a:ext cx="631800" cy="83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8"/>
            <a:stretch/>
          </p:blipFill>
          <p:spPr>
            <a:xfrm>
              <a:off x="6091200" y="4840200"/>
              <a:ext cx="631800" cy="83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" descr=""/>
            <p:cNvPicPr/>
            <p:nvPr/>
          </p:nvPicPr>
          <p:blipFill>
            <a:blip r:embed="rId9"/>
            <a:stretch/>
          </p:blipFill>
          <p:spPr>
            <a:xfrm>
              <a:off x="7157880" y="4840200"/>
              <a:ext cx="632160" cy="83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10"/>
            <a:stretch/>
          </p:blipFill>
          <p:spPr>
            <a:xfrm>
              <a:off x="8224920" y="4840200"/>
              <a:ext cx="63180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 flipV="1">
              <a:off x="5672160" y="2879280"/>
              <a:ext cx="509400" cy="862200"/>
            </a:xfrm>
            <a:prstGeom prst="line">
              <a:avLst/>
            </a:prstGeom>
            <a:ln w="38160">
              <a:solidFill>
                <a:srgbClr val="ffff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6942240" y="2879640"/>
              <a:ext cx="34920" cy="828720"/>
            </a:xfrm>
            <a:prstGeom prst="line">
              <a:avLst/>
            </a:prstGeom>
            <a:ln w="38160">
              <a:solidFill>
                <a:srgbClr val="ffff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flipV="1">
              <a:off x="7924680" y="2862360"/>
              <a:ext cx="287280" cy="846000"/>
            </a:xfrm>
            <a:prstGeom prst="line">
              <a:avLst/>
            </a:prstGeom>
            <a:ln w="38160">
              <a:solidFill>
                <a:srgbClr val="ffff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5468760" y="4132080"/>
              <a:ext cx="219240" cy="6094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>
              <a:off x="5874840" y="4165560"/>
              <a:ext cx="507960" cy="6271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6958080" y="4151160"/>
              <a:ext cx="560160" cy="6256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8280000" y="4121280"/>
              <a:ext cx="322200" cy="6746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122440" y="3762360"/>
              <a:ext cx="117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Instance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366960" y="3754440"/>
              <a:ext cx="117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Instance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619400" y="3745080"/>
              <a:ext cx="117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Instance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Organizational Learning Basis/Goal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680" y="1523880"/>
            <a:ext cx="7999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Domain construction 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Learning through the collaborative construction of shared models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ER (Fischer) lifecycle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Seed/Evolutionary Growth/Re-seed</a:t>
            </a:r>
            <a:br>
              <a:rPr sz="2000"/>
            </a:b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Reflection-in-action 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Integration of working and learning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Perspective taking 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Learning and interpretation through making </a:t>
            </a:r>
            <a:r>
              <a:rPr b="0" i="1" lang="en-GB" sz="2000" spc="-1" strike="noStrike">
                <a:solidFill>
                  <a:srgbClr val="ffff00"/>
                </a:solidFill>
                <a:latin typeface="Comic Sans MS"/>
              </a:rPr>
              <a:t>conceptual cues </a:t>
            </a: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explicit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4" name=""/>
          <p:cNvSpPr/>
          <p:nvPr/>
        </p:nvSpPr>
        <p:spPr>
          <a:xfrm>
            <a:off x="320760" y="4165560"/>
            <a:ext cx="8518320" cy="0"/>
          </a:xfrm>
          <a:prstGeom prst="line">
            <a:avLst/>
          </a:prstGeom>
          <a:ln w="284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here/With Whom?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680" y="1523880"/>
            <a:ext cx="7999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omain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Electronic News Publishing, Medical Guidelines, Fault log management, Helpdesk support, ‘Best Practice’ Repositories, Engineering Design, Coursewar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Users/Partner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British Aerospace, German Coal Mining Industry, Siemens, UK’s University for Industry, BP-Amoco, The Open University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Modelling Support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71680" y="1523880"/>
            <a:ext cx="7999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OCML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.  “Operational Ontolingua”.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1800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Ontology Library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.  Extensive library of ontologie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1800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WebOnto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.  Web-based Editor/Browser for Ontologies, Knowledge Model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1800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Lois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.  Ontology-Driven Query Interface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1800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Knote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.  Ontology-Driven KA Tool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1800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D3E/CEDAR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.  Technology for supporting document-centred discourse and debate.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39600"/>
            <a:ext cx="9144000" cy="677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Perspectives on the Web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04920" y="3924360"/>
            <a:ext cx="7941960" cy="1033560"/>
            <a:chOff x="304920" y="3924360"/>
            <a:chExt cx="7941960" cy="1033560"/>
          </a:xfrm>
        </p:grpSpPr>
        <p:sp>
          <p:nvSpPr>
            <p:cNvPr id="49" name=""/>
            <p:cNvSpPr/>
            <p:nvPr/>
          </p:nvSpPr>
          <p:spPr>
            <a:xfrm>
              <a:off x="4381560" y="4064040"/>
              <a:ext cx="838080" cy="457200"/>
            </a:xfrm>
            <a:custGeom>
              <a:avLst/>
              <a:gdLst>
                <a:gd name="textAreaLeft" fmla="*/ 130680 w 838080"/>
                <a:gd name="textAreaRight" fmla="*/ 733320 w 83808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412960" y="3924360"/>
              <a:ext cx="283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Comic Sans MS"/>
                </a:rPr>
                <a:t>Semantic Retrieval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4920" y="3983040"/>
              <a:ext cx="4406760" cy="97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2401"/>
                </a:spcBef>
                <a:buClr>
                  <a:srgbClr val="ffff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Comic Sans MS"/>
                </a:rPr>
                <a:t>The Semantic Web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ffff00"/>
                </a:buClr>
                <a:buFont typeface="Comic Sans MS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00"/>
                  </a:solidFill>
                  <a:latin typeface="Comic Sans MS"/>
                </a:rPr>
                <a:t>Semantic Models/Ontologies</a:t>
              </a:r>
              <a:endParaRPr b="0" lang="en-US" sz="2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04920" y="5245200"/>
            <a:ext cx="8187840" cy="1191240"/>
            <a:chOff x="304920" y="5245200"/>
            <a:chExt cx="8187840" cy="1191240"/>
          </a:xfrm>
        </p:grpSpPr>
        <p:sp>
          <p:nvSpPr>
            <p:cNvPr id="53" name=""/>
            <p:cNvSpPr/>
            <p:nvPr/>
          </p:nvSpPr>
          <p:spPr>
            <a:xfrm>
              <a:off x="4381560" y="5346720"/>
              <a:ext cx="838080" cy="457200"/>
            </a:xfrm>
            <a:custGeom>
              <a:avLst/>
              <a:gdLst>
                <a:gd name="textAreaLeft" fmla="*/ 130680 w 838080"/>
                <a:gd name="textAreaRight" fmla="*/ 733320 w 83808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29440" y="5245200"/>
              <a:ext cx="3163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Comic Sans MS"/>
                </a:rPr>
                <a:t>Intepretation,</a:t>
              </a:r>
              <a:br>
                <a:rPr sz="2400"/>
              </a:br>
              <a:r>
                <a:rPr b="0" lang="en-GB" sz="2400" spc="-1" strike="noStrike">
                  <a:solidFill>
                    <a:srgbClr val="ffff00"/>
                  </a:solidFill>
                  <a:latin typeface="Comic Sans MS"/>
                </a:rPr>
                <a:t>Knowledge Creation </a:t>
              </a:r>
              <a:br>
                <a:rPr sz="2400"/>
              </a:br>
              <a:r>
                <a:rPr b="0" lang="en-GB" sz="2400" spc="-1" strike="noStrike">
                  <a:solidFill>
                    <a:srgbClr val="ffff00"/>
                  </a:solidFill>
                  <a:latin typeface="Comic Sans MS"/>
                </a:rPr>
                <a:t>and Sharing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04920" y="5337000"/>
              <a:ext cx="4406760" cy="97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2401"/>
                </a:spcBef>
                <a:buClr>
                  <a:srgbClr val="ffff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Comic Sans MS"/>
                </a:rPr>
                <a:t>The Knowledge Web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ffff00"/>
                </a:buClr>
                <a:buFont typeface="Comic Sans MS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00"/>
                  </a:solidFill>
                  <a:latin typeface="Comic Sans MS"/>
                </a:rPr>
                <a:t>Services/Agents</a:t>
              </a:r>
              <a:endParaRPr b="0" lang="en-US" sz="2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04920" y="1579680"/>
            <a:ext cx="8799120" cy="2176200"/>
            <a:chOff x="304920" y="1579680"/>
            <a:chExt cx="8799120" cy="2176200"/>
          </a:xfrm>
        </p:grpSpPr>
        <p:grpSp>
          <p:nvGrpSpPr>
            <p:cNvPr id="57" name=""/>
            <p:cNvGrpSpPr/>
            <p:nvPr/>
          </p:nvGrpSpPr>
          <p:grpSpPr>
            <a:xfrm>
              <a:off x="304920" y="2781360"/>
              <a:ext cx="8799120" cy="974520"/>
              <a:chOff x="304920" y="2781360"/>
              <a:chExt cx="8799120" cy="974520"/>
            </a:xfrm>
          </p:grpSpPr>
          <p:sp>
            <p:nvSpPr>
              <p:cNvPr id="58" name=""/>
              <p:cNvSpPr/>
              <p:nvPr/>
            </p:nvSpPr>
            <p:spPr>
              <a:xfrm>
                <a:off x="4381560" y="2971800"/>
                <a:ext cx="838080" cy="457200"/>
              </a:xfrm>
              <a:custGeom>
                <a:avLst/>
                <a:gdLst>
                  <a:gd name="textAreaLeft" fmla="*/ 130680 w 838080"/>
                  <a:gd name="textAreaRight" fmla="*/ 733320 w 838080"/>
                  <a:gd name="textAreaTop" fmla="*/ 114120 h 457200"/>
                  <a:gd name="textAreaBottom" fmla="*/ 34308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5418000" y="2971800"/>
                <a:ext cx="368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00"/>
                    </a:solidFill>
                    <a:latin typeface="Comic Sans MS"/>
                  </a:rPr>
                  <a:t>Data Exchange/Retrieval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04920" y="2781360"/>
                <a:ext cx="4406760" cy="97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2401"/>
                  </a:spcBef>
                  <a:buClr>
                    <a:srgbClr val="ffff00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00"/>
                    </a:solidFill>
                    <a:latin typeface="Comic Sans MS"/>
                  </a:rPr>
                  <a:t>The Database Web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  <a:p>
                <a:pPr lvl="1" marL="743040" indent="-285840">
                  <a:lnSpc>
                    <a:spcPct val="100000"/>
                  </a:lnSpc>
                  <a:spcBef>
                    <a:spcPts val="499"/>
                  </a:spcBef>
                  <a:buClr>
                    <a:srgbClr val="ffff00"/>
                  </a:buClr>
                  <a:buFont typeface="Comic Sans MS"/>
                  <a:buChar char="–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00"/>
                    </a:solidFill>
                    <a:latin typeface="Comic Sans MS"/>
                  </a:rPr>
                  <a:t>Structured Data/XML</a:t>
                </a:r>
                <a:endParaRPr b="0" lang="en-US" sz="2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61" name=""/>
            <p:cNvGrpSpPr/>
            <p:nvPr/>
          </p:nvGrpSpPr>
          <p:grpSpPr>
            <a:xfrm>
              <a:off x="317520" y="1579680"/>
              <a:ext cx="8769600" cy="974520"/>
              <a:chOff x="317520" y="1579680"/>
              <a:chExt cx="8769600" cy="974520"/>
            </a:xfrm>
          </p:grpSpPr>
          <p:sp>
            <p:nvSpPr>
              <p:cNvPr id="62" name=""/>
              <p:cNvSpPr/>
              <p:nvPr/>
            </p:nvSpPr>
            <p:spPr>
              <a:xfrm>
                <a:off x="4381560" y="1770120"/>
                <a:ext cx="838080" cy="457200"/>
              </a:xfrm>
              <a:custGeom>
                <a:avLst/>
                <a:gdLst>
                  <a:gd name="textAreaLeft" fmla="*/ 130680 w 838080"/>
                  <a:gd name="textAreaRight" fmla="*/ 733320 w 838080"/>
                  <a:gd name="textAreaTop" fmla="*/ 114120 h 457200"/>
                  <a:gd name="textAreaBottom" fmla="*/ 34308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422680" y="1770120"/>
                <a:ext cx="366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00"/>
                    </a:solidFill>
                    <a:latin typeface="Comic Sans MS"/>
                  </a:rPr>
                  <a:t>Browsing/Lexical Search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17520" y="1579680"/>
                <a:ext cx="4729320" cy="97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2000"/>
              </a:bodyPr>
              <a:p>
                <a:pPr marL="315360" indent="-315360">
                  <a:lnSpc>
                    <a:spcPct val="100000"/>
                  </a:lnSpc>
                  <a:spcBef>
                    <a:spcPts val="2401"/>
                  </a:spcBef>
                  <a:buClr>
                    <a:srgbClr val="ffff00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00"/>
                    </a:solidFill>
                    <a:latin typeface="Comic Sans MS"/>
                  </a:rPr>
                  <a:t>The Hypertext Web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  <a:p>
                <a:pPr lvl="1" marL="683280" indent="-262800">
                  <a:lnSpc>
                    <a:spcPct val="100000"/>
                  </a:lnSpc>
                  <a:spcBef>
                    <a:spcPts val="499"/>
                  </a:spcBef>
                  <a:buClr>
                    <a:srgbClr val="ffff00"/>
                  </a:buClr>
                  <a:buFont typeface="Comic Sans MS"/>
                  <a:buChar char="–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00"/>
                    </a:solidFill>
                    <a:latin typeface="Comic Sans MS"/>
                  </a:rPr>
                  <a:t>Documents and Document Links</a:t>
                </a:r>
                <a:endParaRPr b="0" lang="en-US" sz="2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09440" y="380880"/>
            <a:ext cx="895824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371600" y="152280"/>
            <a:ext cx="655308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27080" y="254160"/>
            <a:ext cx="888984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71440" y="582480"/>
            <a:ext cx="8601120" cy="569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Modelling by Non-Experts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71680" y="1523880"/>
            <a:ext cx="7999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Modelling is difficult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Our approach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Instantiate rather than defin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Careful design of the ontology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mic Sans MS"/>
              </a:rPr>
              <a:t>Domain-Specific Terminology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mic Sans MS"/>
              </a:rPr>
              <a:t>Modularity/Minimal Definitions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Organizational Aspects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mic Sans MS"/>
              </a:rPr>
              <a:t>Co-operation rather than competition.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mic Sans MS"/>
              </a:rPr>
              <a:t>Benefits outweigh costs. 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mic Sans MS"/>
              </a:rPr>
              <a:t>Compatibility with organizational work practices. 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Conclusions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4440" y="1285920"/>
            <a:ext cx="7999560" cy="51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Comprehensive suite of technologies 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Languages, tools, server technology, etc...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3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Holistic Approach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249"/>
              </a:spcBef>
              <a:spcAft>
                <a:spcPts val="499"/>
              </a:spcAft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We look at all facets of the problem: users, technology, organizational processes, learning theories.…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3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Approach very promising....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249"/>
              </a:spcBef>
              <a:spcAft>
                <a:spcPts val="499"/>
              </a:spcAft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8-10 ongoing projects with industrial and governmental organizations 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3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URLs: 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24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http:/kmi.open.ac.uk/people/motta, 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24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http:/webonto.open.ac.uk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24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http:/kmi.open.ac.uk/knowledge-modelling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Example: Knowledge Perspective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on Digital Libraries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708120" y="1681200"/>
            <a:ext cx="7267320" cy="5176800"/>
            <a:chOff x="708120" y="1681200"/>
            <a:chExt cx="7267320" cy="5176800"/>
          </a:xfrm>
        </p:grpSpPr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708120" y="2359080"/>
              <a:ext cx="1184040" cy="107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2"/>
            <a:stretch/>
          </p:blipFill>
          <p:spPr>
            <a:xfrm>
              <a:off x="6791400" y="1770120"/>
              <a:ext cx="1184040" cy="107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3"/>
            <a:stretch/>
          </p:blipFill>
          <p:spPr>
            <a:xfrm>
              <a:off x="6626160" y="3294000"/>
              <a:ext cx="1184400" cy="107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4"/>
            <a:stretch/>
          </p:blipFill>
          <p:spPr>
            <a:xfrm>
              <a:off x="6753240" y="4957920"/>
              <a:ext cx="1184040" cy="10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 flipV="1">
              <a:off x="1909800" y="2440080"/>
              <a:ext cx="695160" cy="3319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766880" y="3440160"/>
              <a:ext cx="698400" cy="12780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895560" y="3948120"/>
              <a:ext cx="825480" cy="10922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64040" y="4329360"/>
              <a:ext cx="825480" cy="10922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864040" y="2411640"/>
              <a:ext cx="825480" cy="10922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692520" y="2563920"/>
              <a:ext cx="1104840" cy="10159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616200" y="5040360"/>
              <a:ext cx="990720" cy="8510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4022640" y="5840640"/>
              <a:ext cx="647640" cy="4572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3921120" y="3655800"/>
              <a:ext cx="914400" cy="3049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5877000" y="2094120"/>
              <a:ext cx="939600" cy="2412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5724360" y="5547960"/>
              <a:ext cx="939960" cy="2415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3705120" y="4125960"/>
              <a:ext cx="1181160" cy="6984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3692520" y="2246400"/>
              <a:ext cx="1092240" cy="1396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743280" y="2297160"/>
              <a:ext cx="2870280" cy="1206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870360" y="3757680"/>
              <a:ext cx="2882880" cy="14731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909800" y="3033720"/>
              <a:ext cx="2786040" cy="22989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451320" y="4672080"/>
              <a:ext cx="3238200" cy="558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360440" y="3440160"/>
              <a:ext cx="1494000" cy="29545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pic>
          <p:nvPicPr>
            <p:cNvPr id="89" name="" descr=""/>
            <p:cNvPicPr/>
            <p:nvPr/>
          </p:nvPicPr>
          <p:blipFill>
            <a:blip r:embed="rId5"/>
            <a:stretch/>
          </p:blipFill>
          <p:spPr>
            <a:xfrm>
              <a:off x="4657680" y="1731960"/>
              <a:ext cx="1184400" cy="107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6"/>
            <a:stretch/>
          </p:blipFill>
          <p:spPr>
            <a:xfrm>
              <a:off x="4898880" y="3179880"/>
              <a:ext cx="1184400" cy="107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7"/>
            <a:stretch/>
          </p:blipFill>
          <p:spPr>
            <a:xfrm>
              <a:off x="4683240" y="5085000"/>
              <a:ext cx="1184040" cy="107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8"/>
            <a:stretch/>
          </p:blipFill>
          <p:spPr>
            <a:xfrm>
              <a:off x="2600280" y="1681200"/>
              <a:ext cx="1184400" cy="107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9"/>
            <a:stretch/>
          </p:blipFill>
          <p:spPr>
            <a:xfrm>
              <a:off x="2523960" y="4475160"/>
              <a:ext cx="1184400" cy="107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10"/>
            <a:stretch/>
          </p:blipFill>
          <p:spPr>
            <a:xfrm>
              <a:off x="2854440" y="5783400"/>
              <a:ext cx="1184040" cy="107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11"/>
            <a:stretch/>
          </p:blipFill>
          <p:spPr>
            <a:xfrm>
              <a:off x="2752560" y="3154320"/>
              <a:ext cx="1184400" cy="1074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Current Support for Scholarly Tasks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71680" y="1523880"/>
            <a:ext cx="7999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Bibliographic links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Keyword Search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ubject-based browsing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52280" y="152280"/>
            <a:ext cx="8839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600200"/>
            <a:ext cx="89917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250"/>
              </a:spcBef>
              <a:spcAft>
                <a:spcPts val="799"/>
              </a:spcAft>
              <a:buClr>
                <a:srgbClr val="ffff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henomena of interest to scholars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71680" y="1523880"/>
            <a:ext cx="7999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Who’s building on the ideas in this paper?”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Who’s challenged this paper?”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as anyone proposed a similar solution but from a different theoretical perspective?”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Are there groups building on theory T, but who contradict each other?”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Is there any software which tackles problem P?”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What impact did Language L have?”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Are there distinctive theoretical perspectives on problem P?”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cholarly Ontologies Project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91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cc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Comic Sans MS"/>
              </a:rPr>
              <a:t>Use scenario: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researchers submit claims about their documents to a digital library internet server: key contributions and connections to the literature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cc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Comic Sans MS"/>
              </a:rPr>
              <a:t>Serve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aintains model of the literature network, and  provides intelligent search, automated linking, structural analysis, agents, concept maps...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6320" y="1600200"/>
            <a:ext cx="8991360" cy="5257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owards an extendable ontology for scholarly claims and relations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28600" y="1676520"/>
          <a:ext cx="8763120" cy="5043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763120" cy="50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839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very assertion is a claim,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owned by an author,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open to contest.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9" name="claim-structure" descr=""/>
          <p:cNvPicPr/>
          <p:nvPr/>
        </p:nvPicPr>
        <p:blipFill>
          <a:blip r:embed="rId1"/>
          <a:stretch/>
        </p:blipFill>
        <p:spPr>
          <a:xfrm>
            <a:off x="990720" y="2247840"/>
            <a:ext cx="7086600" cy="33148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52280" y="5943600"/>
            <a:ext cx="8839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Fundamentally perspectiva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Knowledge Level: Interpretation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71680" y="1523880"/>
            <a:ext cx="7999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 intellectual lineage of idea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 impact of idea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erspectives/schools of thought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 parallel development of similar idea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nconsistencies/contradiction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tructural similarities in modes of argumentation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16:03:25Z</dcterms:created>
  <dc:creator>Enrico Motta</dc:creator>
  <dc:description/>
  <dc:language>en-US</dc:language>
  <cp:lastModifiedBy>Enrico Motta</cp:lastModifiedBy>
  <dcterms:modified xsi:type="dcterms:W3CDTF">2000-04-13T15:22:03Z</dcterms:modified>
  <cp:revision>102</cp:revision>
  <dc:subject/>
  <dc:title>Knowledge Modelling Technologies</dc:title>
</cp:coreProperties>
</file>